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9.png" ContentType="image/png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9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116.png" ContentType="image/png"/>
  <Override PartName="/ppt/media/image87.wmf" ContentType="image/x-wmf"/>
  <Override PartName="/ppt/media/image19.wmf" ContentType="image/x-wmf"/>
  <Override PartName="/ppt/media/image79.wmf" ContentType="image/x-wmf"/>
  <Override PartName="/ppt/media/image107.png" ContentType="image/png"/>
  <Override PartName="/ppt/media/image78.wmf" ContentType="image/x-wmf"/>
  <Override PartName="/ppt/media/image76.wmf" ContentType="image/x-wmf"/>
  <Override PartName="/ppt/media/image75.wmf" ContentType="image/x-wmf"/>
  <Override PartName="/ppt/media/image127.wmf" ContentType="image/x-wmf"/>
  <Override PartName="/ppt/media/image34.wmf" ContentType="image/x-wmf"/>
  <Override PartName="/ppt/media/image77.png" ContentType="image/png"/>
  <Override PartName="/ppt/media/image144.wmf" ContentType="image/x-wmf"/>
  <Override PartName="/ppt/media/image35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45.wmf" ContentType="image/x-wmf"/>
  <Override PartName="/ppt/media/image50.wmf" ContentType="image/x-wmf"/>
  <Override PartName="/ppt/media/image147.wmf" ContentType="image/x-wmf"/>
  <Override PartName="/ppt/media/image128.wmf" ContentType="image/x-wmf"/>
  <Override PartName="/ppt/media/image44.wmf" ContentType="image/x-wmf"/>
  <Override PartName="/ppt/media/image130.wmf" ContentType="image/x-wmf"/>
  <Override PartName="/ppt/media/image129.wmf" ContentType="image/x-wmf"/>
  <Override PartName="/ppt/media/image32.wmf" ContentType="image/x-wmf"/>
  <Override PartName="/ppt/media/image131.png" ContentType="image/png"/>
  <Override PartName="/ppt/media/image37.wmf" ContentType="image/x-wmf"/>
  <Override PartName="/ppt/media/image46.wmf" ContentType="image/x-wmf"/>
  <Override PartName="/ppt/media/image132.wmf" ContentType="image/x-wmf"/>
  <Override PartName="/ppt/media/image13.png" ContentType="image/png"/>
  <Override PartName="/ppt/media/image1.png" ContentType="image/png"/>
  <Override PartName="/ppt/media/image153.wmf" ContentType="image/x-wmf"/>
  <Override PartName="/ppt/media/image154.wmf" ContentType="image/x-wmf"/>
  <Override PartName="/ppt/media/image51.wmf" ContentType="image/x-wmf"/>
  <Override PartName="/ppt/media/image148.wmf" ContentType="image/x-wmf"/>
  <Override PartName="/ppt/media/image161.wmf" ContentType="image/x-wmf"/>
  <Override PartName="/ppt/media/image94.png" ContentType="image/png"/>
  <Override PartName="/ppt/media/image134.png" ContentType="image/png"/>
  <Override PartName="/ppt/media/image155.wmf" ContentType="image/x-wmf"/>
  <Override PartName="/ppt/media/image33.wmf" ContentType="image/x-wmf"/>
  <Override PartName="/ppt/media/image156.wmf" ContentType="image/x-wmf"/>
  <Override PartName="/ppt/media/image157.wmf" ContentType="image/x-wmf"/>
  <Override PartName="/ppt/media/image60.wmf" ContentType="image/x-wmf"/>
  <Override PartName="/ppt/media/image160.wmf" ContentType="image/x-wmf"/>
  <Override PartName="/ppt/media/image150.wmf" ContentType="image/x-wmf"/>
  <Override PartName="/ppt/media/image159.png" ContentType="image/png"/>
  <Override PartName="/ppt/media/image162.wmf" ContentType="image/x-wmf"/>
  <Override PartName="/ppt/media/image151.wmf" ContentType="image/x-wmf"/>
  <Override PartName="/ppt/media/image152.png" ContentType="image/png"/>
  <Override PartName="/ppt/media/image58.wmf" ContentType="image/x-wmf"/>
  <Override PartName="/ppt/media/image49.wmf" ContentType="image/x-wmf"/>
  <Override PartName="/ppt/media/image100.wmf" ContentType="image/x-wmf"/>
  <Override PartName="/ppt/media/image135.wmf" ContentType="image/x-wmf"/>
  <Override PartName="/ppt/media/image4.png" ContentType="image/png"/>
  <Override PartName="/ppt/media/image40.wmf" ContentType="image/x-wmf"/>
  <Override PartName="/ppt/media/image137.wmf" ContentType="image/x-wmf"/>
  <Override PartName="/ppt/media/image163.wmf" ContentType="image/x-wmf"/>
  <Override PartName="/ppt/media/image41.wmf" ContentType="image/x-wmf"/>
  <Override PartName="/ppt/media/image138.wmf" ContentType="image/x-wmf"/>
  <Override PartName="/ppt/media/image164.wmf" ContentType="image/x-wmf"/>
  <Override PartName="/ppt/media/image149.png" ContentType="image/png"/>
  <Override PartName="/ppt/media/image146.wmf" ContentType="image/x-wmf"/>
  <Override PartName="/ppt/media/image145.wmf" ContentType="image/x-wmf"/>
  <Override PartName="/ppt/media/image143.wmf" ContentType="image/x-wmf"/>
  <Override PartName="/ppt/media/image56.wmf" ContentType="image/x-wmf"/>
  <Override PartName="/ppt/media/image142.wmf" ContentType="image/x-wmf"/>
  <Override PartName="/ppt/media/image55.wmf" ContentType="image/x-wmf"/>
  <Override PartName="/ppt/media/image141.wmf" ContentType="image/x-wmf"/>
  <Override PartName="/ppt/media/image54.wmf" ContentType="image/x-wmf"/>
  <Override PartName="/ppt/media/image140.wmf" ContentType="image/x-wmf"/>
  <Override PartName="/ppt/media/image136.wmf" ContentType="image/x-wmf"/>
  <Override PartName="/ppt/media/image5.png" ContentType="image/png"/>
  <Override PartName="/ppt/media/image10.wmf" ContentType="image/x-wmf"/>
  <Override PartName="/ppt/media/image47.wmf" ContentType="image/x-wmf"/>
  <Override PartName="/ppt/media/image133.wmf" ContentType="image/x-wmf"/>
  <Override PartName="/ppt/media/image2.png" ContentType="image/png"/>
  <Override PartName="/ppt/media/image39.wmf" ContentType="image/x-wmf"/>
  <Override PartName="/ppt/media/image31.wmf" ContentType="image/x-wmf"/>
  <Override PartName="/ppt/media/image9.wmf" ContentType="image/x-wmf"/>
  <Override PartName="/ppt/media/image38.wmf" ContentType="image/x-wmf"/>
  <Override PartName="/ppt/media/image30.wmf" ContentType="image/x-wmf"/>
  <Override PartName="/ppt/media/image8.wmf" ContentType="image/x-wmf"/>
  <Override PartName="/ppt/media/image53.wmf" ContentType="image/x-wmf"/>
  <Override PartName="/ppt/media/image7.wmf" ContentType="image/x-wmf"/>
  <Override PartName="/ppt/media/image52.wmf" ContentType="image/x-wmf"/>
  <Override PartName="/ppt/media/image12.png" ContentType="image/png"/>
  <Override PartName="/ppt/media/image48.wmf" ContentType="image/x-wmf"/>
  <Override PartName="/ppt/media/image11.wmf" ContentType="image/x-wmf"/>
  <Override PartName="/ppt/media/image108.wmf" ContentType="image/x-wmf"/>
  <Override PartName="/ppt/media/image3.png" ContentType="image/png"/>
  <Override PartName="/ppt/media/image36.wmf" ContentType="image/x-wmf"/>
  <Override PartName="/ppt/media/image61.wmf" ContentType="image/x-wmf"/>
  <Override PartName="/ppt/media/image158.wmf" ContentType="image/x-wmf"/>
  <Override PartName="/ppt/media/image6.wmf" ContentType="image/x-wmf"/>
  <Override PartName="/ppt/media/image86.wmf" ContentType="image/x-wmf"/>
  <Override PartName="/ppt/media/image18.wmf" ContentType="image/x-wmf"/>
  <Override PartName="/ppt/media/image83.wmf" ContentType="image/x-wmf"/>
  <Override PartName="/ppt/media/image15.wmf" ContentType="image/x-wmf"/>
  <Override PartName="/ppt/media/image80.wmf" ContentType="image/x-wmf"/>
  <Override PartName="/ppt/media/image84.wmf" ContentType="image/x-wmf"/>
  <Override PartName="/ppt/media/image16.wmf" ContentType="image/x-wmf"/>
  <Override PartName="/ppt/media/image81.wmf" ContentType="image/x-wmf"/>
  <Override PartName="/ppt/media/image85.wmf" ContentType="image/x-wmf"/>
  <Override PartName="/ppt/media/image17.wmf" ContentType="image/x-wmf"/>
  <Override PartName="/ppt/media/image82.wmf" ContentType="image/x-wmf"/>
  <Override PartName="/ppt/media/image1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22.wmf" ContentType="image/x-wmf"/>
  <Override PartName="/ppt/media/image90.wmf" ContentType="image/x-wmf"/>
  <Override PartName="/ppt/media/image26.wmf" ContentType="image/x-wmf"/>
  <Override PartName="/ppt/media/image91.wmf" ContentType="image/x-wmf"/>
  <Override PartName="/ppt/media/image23.wmf" ContentType="image/x-wmf"/>
  <Override PartName="/ppt/media/image24.wmf" ContentType="image/x-wmf"/>
  <Override PartName="/ppt/media/image92.wmf" ContentType="image/x-wmf"/>
  <Override PartName="/ppt/media/image25.wmf" ContentType="image/x-wmf"/>
  <Override PartName="/ppt/media/image93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5F4E-9691-4AFC-9816-DB9E95FC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478F-5337-46D4-BB0B-0B2FB21F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7332-3376-4FD3-BBF8-176B1093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D6F4-37E0-478A-BEE6-C5CB07553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5CED-9F17-421B-A6BF-42725703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8717-2003-43E4-A9F8-90532161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C6FC-22DE-4C63-BCD1-8BE73515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5129-AC29-4350-9AB0-80F788E9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03CB-929B-4EE7-A268-C3E5A209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92E6-82D2-4FEA-B1E5-10D51AEA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C036-3AF3-4274-9175-CE2D95EE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838E-B860-4211-9781-30215A07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AC26-40F0-4CE3-AF82-4C04AB5A2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ingBell3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9.wm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0.wmf"/><Relationship Id="rId9" Type="http://schemas.openxmlformats.org/officeDocument/2006/relationships/image" Target="../media/image5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2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23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24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25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26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27.wmf"/><Relationship Id="rId2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0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1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2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3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34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35.wmf"/><Relationship Id="rId22" Type="http://schemas.openxmlformats.org/officeDocument/2006/relationships/image" Target="../media/image5.png"/><Relationship Id="rId2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39.wmf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43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44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45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46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47.wmf"/><Relationship Id="rId23" Type="http://schemas.openxmlformats.org/officeDocument/2006/relationships/image" Target="../media/image5.png"/><Relationship Id="rId2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51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52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53.wmf"/><Relationship Id="rId19" Type="http://schemas.openxmlformats.org/officeDocument/2006/relationships/image" Target="../media/image5.png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5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56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57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58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59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60.wmf"/><Relationship Id="rId21" Type="http://schemas.openxmlformats.org/officeDocument/2006/relationships/image" Target="../media/image5.png"/><Relationship Id="rId2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61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62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63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64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65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66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67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68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69.wmf"/><Relationship Id="rId25" Type="http://schemas.openxmlformats.org/officeDocument/2006/relationships/image" Target="../media/image5.png"/><Relationship Id="rId2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0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1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72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73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74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75.wmf"/><Relationship Id="rId19" Type="http://schemas.openxmlformats.org/officeDocument/2006/relationships/image" Target="../media/image5.png"/><Relationship Id="rId2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6.wmf"/><Relationship Id="rId9" Type="http://schemas.openxmlformats.org/officeDocument/2006/relationships/image" Target="../media/image77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78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79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80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81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82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83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84.wmf"/><Relationship Id="rId24" Type="http://schemas.openxmlformats.org/officeDocument/2006/relationships/oleObject" Target="../embeddings/oleObject9.bin"/><Relationship Id="rId25" Type="http://schemas.openxmlformats.org/officeDocument/2006/relationships/image" Target="../media/image85.wmf"/><Relationship Id="rId26" Type="http://schemas.openxmlformats.org/officeDocument/2006/relationships/image" Target="../media/image5.png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8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8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8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89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90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91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92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93.wmf"/><Relationship Id="rId23" Type="http://schemas.openxmlformats.org/officeDocument/2006/relationships/image" Target="../media/image5.png"/><Relationship Id="rId2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hyperlink" Target="file:///tmp/home/.config/libreoffice/4/user/gallery/TingBell3.wav" TargetMode="External"/><Relationship Id="rId3" Type="http://schemas.openxmlformats.org/officeDocument/2006/relationships/image" Target="../media/image3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2.png"/><Relationship Id="rId6" Type="http://schemas.openxmlformats.org/officeDocument/2006/relationships/slide" Target=""/><Relationship Id="rId7" Type="http://schemas.openxmlformats.org/officeDocument/2006/relationships/image" Target="../media/image4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95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96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97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98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99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100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101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102.wmf"/><Relationship Id="rId24" Type="http://schemas.openxmlformats.org/officeDocument/2006/relationships/oleObject" Target="../embeddings/oleObject9.bin"/><Relationship Id="rId25" Type="http://schemas.openxmlformats.org/officeDocument/2006/relationships/image" Target="../media/image103.wmf"/><Relationship Id="rId26" Type="http://schemas.openxmlformats.org/officeDocument/2006/relationships/oleObject" Target="../embeddings/oleObject10.bin"/><Relationship Id="rId27" Type="http://schemas.openxmlformats.org/officeDocument/2006/relationships/image" Target="../media/image104.wmf"/><Relationship Id="rId28" Type="http://schemas.openxmlformats.org/officeDocument/2006/relationships/oleObject" Target="../embeddings/oleObject11.bin"/><Relationship Id="rId29" Type="http://schemas.openxmlformats.org/officeDocument/2006/relationships/image" Target="../media/image105.wmf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06.wmf"/><Relationship Id="rId9" Type="http://schemas.openxmlformats.org/officeDocument/2006/relationships/image" Target="../media/image107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08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09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10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11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112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113.wmf"/><Relationship Id="rId22" Type="http://schemas.openxmlformats.org/officeDocument/2006/relationships/image" Target="../media/image5.png"/><Relationship Id="rId2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4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15.wmf"/><Relationship Id="rId11" Type="http://schemas.openxmlformats.org/officeDocument/2006/relationships/image" Target="../media/image116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17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18.wmf"/><Relationship Id="rId16" Type="http://schemas.openxmlformats.org/officeDocument/2006/relationships/image" Target="../media/image119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0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21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22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23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24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25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126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127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128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129.wmf"/><Relationship Id="rId27" Type="http://schemas.openxmlformats.org/officeDocument/2006/relationships/oleObject" Target="../embeddings/oleObject11.bin"/><Relationship Id="rId28" Type="http://schemas.openxmlformats.org/officeDocument/2006/relationships/image" Target="../media/image130.wmf"/><Relationship Id="rId29" Type="http://schemas.openxmlformats.org/officeDocument/2006/relationships/image" Target="../media/image131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2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33.wmf"/><Relationship Id="rId11" Type="http://schemas.openxmlformats.org/officeDocument/2006/relationships/image" Target="../media/image134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35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36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37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138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139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140.wmf"/><Relationship Id="rId24" Type="http://schemas.openxmlformats.org/officeDocument/2006/relationships/oleObject" Target="../embeddings/oleObject9.bin"/><Relationship Id="rId25" Type="http://schemas.openxmlformats.org/officeDocument/2006/relationships/image" Target="../media/image141.wmf"/><Relationship Id="rId26" Type="http://schemas.openxmlformats.org/officeDocument/2006/relationships/oleObject" Target="../embeddings/oleObject10.bin"/><Relationship Id="rId27" Type="http://schemas.openxmlformats.org/officeDocument/2006/relationships/image" Target="../media/image142.wmf"/><Relationship Id="rId28" Type="http://schemas.openxmlformats.org/officeDocument/2006/relationships/oleObject" Target="../embeddings/oleObject11.bin"/><Relationship Id="rId29" Type="http://schemas.openxmlformats.org/officeDocument/2006/relationships/image" Target="../media/image143.wmf"/><Relationship Id="rId30" Type="http://schemas.openxmlformats.org/officeDocument/2006/relationships/oleObject" Target="../embeddings/oleObject12.bin"/><Relationship Id="rId31" Type="http://schemas.openxmlformats.org/officeDocument/2006/relationships/image" Target="../media/image144.wmf"/><Relationship Id="rId32" Type="http://schemas.openxmlformats.org/officeDocument/2006/relationships/oleObject" Target="../embeddings/oleObject13.bin"/><Relationship Id="rId33" Type="http://schemas.openxmlformats.org/officeDocument/2006/relationships/image" Target="../media/image145.wmf"/><Relationship Id="rId34" Type="http://schemas.openxmlformats.org/officeDocument/2006/relationships/image" Target="../media/image5.png"/><Relationship Id="rId3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4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4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47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48.wmf"/><Relationship Id="rId15" Type="http://schemas.openxmlformats.org/officeDocument/2006/relationships/image" Target="../media/image149.png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50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151.wmf"/><Relationship Id="rId20" Type="http://schemas.openxmlformats.org/officeDocument/2006/relationships/image" Target="../media/image152.png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153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154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155.wmf"/><Relationship Id="rId27" Type="http://schemas.openxmlformats.org/officeDocument/2006/relationships/image" Target="../media/image5.png"/><Relationship Id="rId2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5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58.wmf"/><Relationship Id="rId12" Type="http://schemas.openxmlformats.org/officeDocument/2006/relationships/image" Target="../media/image159.pn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60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61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62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163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164.wmf"/><Relationship Id="rId23" Type="http://schemas.openxmlformats.org/officeDocument/2006/relationships/image" Target="../media/image5.png"/><Relationship Id="rId2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5.wmf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011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98400" y="3857760"/>
            <a:ext cx="7732800" cy="15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garithms &amp; Exponent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52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ww.maths4scotland.co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7960" y="333360"/>
            <a:ext cx="8096400" cy="428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37080" y="6021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2920" y="580536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4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9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4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03280" y="121752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or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03680" y="2438280"/>
            <a:ext cx="752400" cy="62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06520" y="2563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3280" y="2468520"/>
          <a:ext cx="1652400" cy="74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3280" y="2468520"/>
                    <a:ext cx="165240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3684600" y="2438280"/>
            <a:ext cx="650880" cy="62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08640" y="2438280"/>
            <a:ext cx="528480" cy="62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41880" y="2438280"/>
            <a:ext cx="690480" cy="62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87880" y="2438280"/>
            <a:ext cx="690840" cy="62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99120" y="2563920"/>
            <a:ext cx="16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= 0.916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03680" y="3789360"/>
            <a:ext cx="752400" cy="628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06520" y="3914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41360" y="3778200"/>
          <a:ext cx="1776240" cy="74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360" y="3778200"/>
                    <a:ext cx="17762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684600" y="3789360"/>
            <a:ext cx="650880" cy="628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08640" y="3789360"/>
            <a:ext cx="528480" cy="628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1880" y="3789360"/>
            <a:ext cx="690480" cy="628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87880" y="3789360"/>
            <a:ext cx="690840" cy="628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99120" y="391464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= 0.8808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591160" y="5557680"/>
            <a:ext cx="1585800" cy="903240"/>
            <a:chOff x="5591160" y="5557680"/>
            <a:chExt cx="1585800" cy="903240"/>
          </a:xfrm>
        </p:grpSpPr>
        <p:pic>
          <p:nvPicPr>
            <p:cNvPr id="190" name="" descr=""/>
            <p:cNvPicPr/>
            <p:nvPr/>
          </p:nvPicPr>
          <p:blipFill>
            <a:blip r:embed="rId10"/>
            <a:stretch/>
          </p:blipFill>
          <p:spPr>
            <a:xfrm>
              <a:off x="6076800" y="5557680"/>
              <a:ext cx="52344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5591160" y="6092640"/>
              <a:ext cx="15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Click to 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99440" y="1033560"/>
            <a:ext cx="49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exponential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298680" y="1655640"/>
          <a:ext cx="2248200" cy="66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98680" y="1655640"/>
                    <a:ext cx="22482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4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205" name="" descr=""/>
            <p:cNvPicPr/>
            <p:nvPr/>
          </p:nvPicPr>
          <p:blipFill>
            <a:blip r:embed="rId9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7" name=""/>
          <p:cNvGraphicFramePr/>
          <p:nvPr/>
        </p:nvGraphicFramePr>
        <p:xfrm>
          <a:off x="3930480" y="2395440"/>
          <a:ext cx="3265560" cy="639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30480" y="2395440"/>
                    <a:ext cx="32655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480960" y="2530440"/>
            <a:ext cx="2471760" cy="44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th 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911760" y="2992320"/>
          <a:ext cx="4341600" cy="639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11760" y="2992320"/>
                    <a:ext cx="43416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911760" y="3662280"/>
          <a:ext cx="4440240" cy="601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911760" y="3662280"/>
                    <a:ext cx="444024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474840" y="3154320"/>
            <a:ext cx="3080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log ab = log a + log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95440" y="5002200"/>
          <a:ext cx="3471840" cy="601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95440" y="5002200"/>
                    <a:ext cx="347184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479880" y="3757680"/>
            <a:ext cx="23706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log 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= x log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1680" y="4365720"/>
            <a:ext cx="1770120" cy="44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log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921120" y="4273560"/>
          <a:ext cx="3471840" cy="6015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921120" y="4273560"/>
                    <a:ext cx="347184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4210200" y="5041800"/>
          <a:ext cx="2234880" cy="4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210200" y="5041800"/>
                    <a:ext cx="22348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6588000" y="5008680"/>
          <a:ext cx="2235240" cy="534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588000" y="5008680"/>
                    <a:ext cx="22352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149720" y="1674720"/>
          <a:ext cx="2205000" cy="666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49720" y="1674720"/>
                    <a:ext cx="22050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897920" y="1054080"/>
            <a:ext cx="49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exponential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946680" y="2395440"/>
          <a:ext cx="3232080" cy="639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46680" y="2395440"/>
                    <a:ext cx="32320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480960" y="2530440"/>
            <a:ext cx="2471760" cy="44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th 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927600" y="3033720"/>
          <a:ext cx="4308480" cy="639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27600" y="3033720"/>
                    <a:ext cx="43084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4011480" y="3662280"/>
          <a:ext cx="4240440" cy="601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11480" y="3662280"/>
                    <a:ext cx="424044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474840" y="3154320"/>
            <a:ext cx="3080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log ab = log a + log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77880" y="5002200"/>
          <a:ext cx="3305160" cy="601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77880" y="5002200"/>
                    <a:ext cx="330516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479880" y="3757680"/>
            <a:ext cx="23706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log 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= x log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1680" y="4365720"/>
            <a:ext cx="1770120" cy="44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log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003560" y="4273560"/>
          <a:ext cx="3305160" cy="601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003560" y="4273560"/>
                    <a:ext cx="330516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4425840" y="5041800"/>
          <a:ext cx="1801800" cy="468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425840" y="5041800"/>
                    <a:ext cx="18018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6703920" y="5008680"/>
          <a:ext cx="2001960" cy="534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703920" y="5008680"/>
                    <a:ext cx="20019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5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256" name="" descr=""/>
            <p:cNvPicPr/>
            <p:nvPr/>
          </p:nvPicPr>
          <p:blipFill>
            <a:blip r:embed="rId22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96760" y="1257480"/>
            <a:ext cx="481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logarithmic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246560" y="1962000"/>
          <a:ext cx="2746440" cy="74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46560" y="1962000"/>
                    <a:ext cx="274644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4906800" y="2854440"/>
          <a:ext cx="1706760" cy="749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06800" y="2854440"/>
                    <a:ext cx="17067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616320" y="3019320"/>
            <a:ext cx="33080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o exponential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6320" y="3860640"/>
            <a:ext cx="33080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o exponential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997520" y="3551400"/>
          <a:ext cx="3171600" cy="1228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97520" y="3551400"/>
                    <a:ext cx="31716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3324240" y="4879800"/>
          <a:ext cx="5076720" cy="667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24240" y="4879800"/>
                    <a:ext cx="5076720" cy="6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8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279" name="" descr=""/>
            <p:cNvPicPr/>
            <p:nvPr/>
          </p:nvPicPr>
          <p:blipFill>
            <a:blip r:embed="rId15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730520" y="961920"/>
          <a:ext cx="3259080" cy="54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30520" y="961920"/>
                    <a:ext cx="32590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632480" y="1471680"/>
          <a:ext cx="2714400" cy="52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32480" y="1471680"/>
                    <a:ext cx="271440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511920" y="109152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7320" y="1561320"/>
            <a:ext cx="37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ing your answer in the fo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19640" y="199476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 A, B and C are whole numb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047600" y="2540160"/>
          <a:ext cx="3078360" cy="572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47600" y="2540160"/>
                    <a:ext cx="3078360" cy="57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5222880" y="2492280"/>
          <a:ext cx="3259080" cy="573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22880" y="2492280"/>
                    <a:ext cx="32590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2424240" y="3367080"/>
          <a:ext cx="1296720" cy="995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24240" y="3367080"/>
                    <a:ext cx="129672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4863960" y="3375000"/>
          <a:ext cx="1870200" cy="934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863960" y="3375000"/>
                    <a:ext cx="18702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820800" y="4692600"/>
          <a:ext cx="3800520" cy="542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20800" y="4692600"/>
                    <a:ext cx="38005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5489640" y="4692600"/>
          <a:ext cx="3016080" cy="542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489640" y="4692600"/>
                    <a:ext cx="30160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9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310" name="" descr=""/>
            <p:cNvPicPr/>
            <p:nvPr/>
          </p:nvPicPr>
          <p:blipFill>
            <a:blip r:embed="rId23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768320" y="1189080"/>
          <a:ext cx="3760920" cy="58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68320" y="1189080"/>
                    <a:ext cx="37609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465120" y="1301760"/>
            <a:ext cx="12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974960" y="2173320"/>
          <a:ext cx="2485800" cy="101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74960" y="2173320"/>
                    <a:ext cx="248580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5792760" y="2371680"/>
          <a:ext cx="1930320" cy="588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92760" y="2371680"/>
                    <a:ext cx="19303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1171440" y="3941640"/>
          <a:ext cx="1865520" cy="621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71440" y="3941640"/>
                    <a:ext cx="186552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836880" y="3959280"/>
          <a:ext cx="1963800" cy="587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36880" y="3959280"/>
                    <a:ext cx="196380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7062840" y="3990960"/>
          <a:ext cx="1014480" cy="522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62840" y="3990960"/>
                    <a:ext cx="10144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5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336" name="" descr=""/>
            <p:cNvPicPr/>
            <p:nvPr/>
          </p:nvPicPr>
          <p:blipFill>
            <a:blip r:embed="rId19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61880" y="1297800"/>
            <a:ext cx="12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f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849320" y="1228680"/>
          <a:ext cx="287820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49320" y="1228680"/>
                    <a:ext cx="28782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593640" y="2330280"/>
          <a:ext cx="3273480" cy="53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3640" y="2330280"/>
                    <a:ext cx="327348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5372280" y="2133720"/>
          <a:ext cx="2145960" cy="931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72280" y="2133720"/>
                    <a:ext cx="214596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541440" y="3335400"/>
          <a:ext cx="3276360" cy="1158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440" y="3335400"/>
                    <a:ext cx="327636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5597640" y="3659040"/>
          <a:ext cx="2089080" cy="509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597640" y="3659040"/>
                    <a:ext cx="208908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1922400" y="4800600"/>
          <a:ext cx="1636920" cy="509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22400" y="4800600"/>
                    <a:ext cx="163692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5564160" y="4829040"/>
          <a:ext cx="1523880" cy="452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64160" y="4829040"/>
                    <a:ext cx="15238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0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361" name="" descr=""/>
            <p:cNvPicPr/>
            <p:nvPr/>
          </p:nvPicPr>
          <p:blipFill>
            <a:blip r:embed="rId21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471680" y="1187280"/>
          <a:ext cx="2468520" cy="50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1680" y="1187280"/>
                    <a:ext cx="246852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533520" y="12772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90400" y="1277280"/>
            <a:ext cx="34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lgebraically the value of 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073160" y="2030400"/>
          <a:ext cx="2328840" cy="506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73160" y="2030400"/>
                    <a:ext cx="232884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4856040" y="2030400"/>
          <a:ext cx="2048040" cy="50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56040" y="2030400"/>
                    <a:ext cx="204804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3265560" y="2744640"/>
          <a:ext cx="1571400" cy="506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65560" y="2744640"/>
                    <a:ext cx="157140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938160" y="3478320"/>
          <a:ext cx="2975040" cy="534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38160" y="3478320"/>
                    <a:ext cx="29750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5035680" y="3492360"/>
          <a:ext cx="3058920" cy="506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35680" y="3492360"/>
                    <a:ext cx="305892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919080" y="4365720"/>
          <a:ext cx="2189160" cy="955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19080" y="4365720"/>
                    <a:ext cx="2189160" cy="9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3633840" y="4556160"/>
          <a:ext cx="2189160" cy="450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633840" y="4556160"/>
                    <a:ext cx="218916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6165720" y="4537080"/>
          <a:ext cx="2470320" cy="450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165720" y="4537080"/>
                    <a:ext cx="247032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3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394" name="" descr=""/>
            <p:cNvPicPr/>
            <p:nvPr/>
          </p:nvPicPr>
          <p:blipFill>
            <a:blip r:embed="rId25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120" y="1043640"/>
            <a:ext cx="835344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ind the x co-ordinate of the point where the graph of the cu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ith eq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125800" y="1474920"/>
          <a:ext cx="2276280" cy="46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5800" y="1474920"/>
                    <a:ext cx="22762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>
            <a:off x="4549680" y="1443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sects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axi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81200" y="2389320"/>
            <a:ext cx="1476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3459240" y="2349360"/>
          <a:ext cx="2249280" cy="466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59240" y="2349360"/>
                    <a:ext cx="224928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3562200" y="3048120"/>
          <a:ext cx="2043360" cy="466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62200" y="3048120"/>
                    <a:ext cx="20433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782280" y="3716280"/>
            <a:ext cx="20901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nential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81200" y="3068640"/>
            <a:ext cx="14716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ar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3728880" y="3670200"/>
          <a:ext cx="1344600" cy="414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28880" y="3670200"/>
                    <a:ext cx="13446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3741840" y="4365720"/>
          <a:ext cx="1319040" cy="414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741840" y="4365720"/>
                    <a:ext cx="131904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781200" y="4365720"/>
            <a:ext cx="14716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ar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6346800" y="4249800"/>
          <a:ext cx="982800" cy="647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46800" y="4249800"/>
                    <a:ext cx="9828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3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424" name="" descr=""/>
            <p:cNvPicPr/>
            <p:nvPr/>
          </p:nvPicPr>
          <p:blipFill>
            <a:blip r:embed="rId19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42000" y="935640"/>
            <a:ext cx="343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aph illustrates the la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457280" y="1432080"/>
          <a:ext cx="107964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57280" y="1432080"/>
                    <a:ext cx="1079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442800" y="1980360"/>
            <a:ext cx="461988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straight line passes through A(0.5,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B(0, 1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nd the values of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9"/>
          <a:stretch/>
        </p:blipFill>
        <p:spPr>
          <a:xfrm>
            <a:off x="5327640" y="784080"/>
            <a:ext cx="3321000" cy="242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9" name=""/>
          <p:cNvGraphicFramePr/>
          <p:nvPr/>
        </p:nvGraphicFramePr>
        <p:xfrm>
          <a:off x="833400" y="3344760"/>
          <a:ext cx="232884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33400" y="3344760"/>
                    <a:ext cx="23288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538200" y="4054320"/>
          <a:ext cx="3408480" cy="506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8200" y="4054320"/>
                    <a:ext cx="34084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870120" y="4699080"/>
          <a:ext cx="2214360" cy="506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70120" y="4699080"/>
                    <a:ext cx="221436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4682880" y="3444840"/>
            <a:ext cx="11577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5997600" y="3279600"/>
          <a:ext cx="625320" cy="704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997600" y="3279600"/>
                    <a:ext cx="62532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"/>
          <p:cNvSpPr/>
          <p:nvPr/>
        </p:nvSpPr>
        <p:spPr>
          <a:xfrm>
            <a:off x="6898320" y="3454560"/>
            <a:ext cx="1370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-inter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8505720" y="3486240"/>
          <a:ext cx="200160" cy="309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8505720" y="3486240"/>
                    <a:ext cx="20016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4986360" y="4222800"/>
          <a:ext cx="1363680" cy="5065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986360" y="4222800"/>
                    <a:ext cx="13636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7121520" y="4249800"/>
          <a:ext cx="1306440" cy="4507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121520" y="4249800"/>
                    <a:ext cx="130644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5019840" y="4950000"/>
          <a:ext cx="2073240" cy="4507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019840" y="4950000"/>
                    <a:ext cx="207324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7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458" name="" descr=""/>
            <p:cNvPicPr/>
            <p:nvPr/>
          </p:nvPicPr>
          <p:blipFill>
            <a:blip r:embed="rId26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89760" y="1133640"/>
            <a:ext cx="17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27920" y="1781280"/>
            <a:ext cx="573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 questions on this topic will 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you knowing and being able to us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very basic rules and fa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547640" y="4114800"/>
            <a:ext cx="1586160" cy="903240"/>
            <a:chOff x="1547640" y="4114800"/>
            <a:chExt cx="1586160" cy="903240"/>
          </a:xfrm>
        </p:grpSpPr>
        <p:pic>
          <p:nvPicPr>
            <p:cNvPr id="59" name="" descr=""/>
            <p:cNvPicPr/>
            <p:nvPr/>
          </p:nvPicPr>
          <p:blipFill>
            <a:blip r:embed="rId7"/>
            <a:stretch/>
          </p:blipFill>
          <p:spPr>
            <a:xfrm>
              <a:off x="2033640" y="4114800"/>
              <a:ext cx="52380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547640" y="4649760"/>
              <a:ext cx="158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Click to 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421080" y="4108320"/>
            <a:ext cx="394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When you see this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lick for mor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17600" y="98532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fore a forest fire was brought under control, the spread of fire was described by a law of the fo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2843280" y="1530360"/>
          <a:ext cx="1262160" cy="51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1530360"/>
                    <a:ext cx="126216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"/>
          <p:cNvSpPr/>
          <p:nvPr/>
        </p:nvSpPr>
        <p:spPr>
          <a:xfrm>
            <a:off x="520200" y="1847160"/>
            <a:ext cx="8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e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596880" y="2368440"/>
          <a:ext cx="396720" cy="47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6880" y="2368440"/>
                    <a:ext cx="3967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"/>
          <p:cNvSpPr/>
          <p:nvPr/>
        </p:nvSpPr>
        <p:spPr>
          <a:xfrm>
            <a:off x="495000" y="2440080"/>
            <a:ext cx="725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area covered by the fire when it was first de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area covered by the fire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ours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f it takes one and a half hours for the area of the forest fire to doub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nd the value of the consta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741240" y="4181400"/>
          <a:ext cx="1811520" cy="517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1240" y="4181400"/>
                    <a:ext cx="18115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2960640" y="4214880"/>
          <a:ext cx="1703520" cy="492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60640" y="4214880"/>
                    <a:ext cx="17035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5246640" y="4152960"/>
          <a:ext cx="3076560" cy="492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46640" y="4152960"/>
                    <a:ext cx="30765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630360" y="5022720"/>
          <a:ext cx="225252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0360" y="5022720"/>
                    <a:ext cx="22525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3143160" y="4826160"/>
          <a:ext cx="1949400" cy="847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143160" y="4826160"/>
                    <a:ext cx="194940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5278320" y="5052960"/>
          <a:ext cx="3570480" cy="438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278320" y="5052960"/>
                    <a:ext cx="35704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8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489" name="" descr=""/>
            <p:cNvPicPr/>
            <p:nvPr/>
          </p:nvPicPr>
          <p:blipFill>
            <a:blip r:embed="rId23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5372280" y="701640"/>
            <a:ext cx="3319200" cy="261324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>
            <a:hlinkClick r:id="" action="ppaction://hlinkshowjump?jump=previous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>
            <a:hlinkClick r:id="" action="ppaction://hlinkshowjump?jump=next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10320" y="844920"/>
            <a:ext cx="4036680" cy="17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results of an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ive rise to the graph sh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lphaLcParenR"/>
              <a:tabLst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down the equation of th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erms of P and 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given tha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157400" y="2511360"/>
            <a:ext cx="3570120" cy="455760"/>
            <a:chOff x="1157400" y="2511360"/>
            <a:chExt cx="3570120" cy="455760"/>
          </a:xfrm>
        </p:grpSpPr>
        <p:graphicFrame>
          <p:nvGraphicFramePr>
            <p:cNvPr id="501" name=""/>
            <p:cNvGraphicFramePr/>
            <p:nvPr/>
          </p:nvGraphicFramePr>
          <p:xfrm>
            <a:off x="1157400" y="2538360"/>
            <a:ext cx="1285920" cy="428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0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157400" y="2538360"/>
                      <a:ext cx="1285920" cy="4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3" name=""/>
            <p:cNvSpPr/>
            <p:nvPr/>
          </p:nvSpPr>
          <p:spPr>
            <a:xfrm>
              <a:off x="2531160" y="2550240"/>
              <a:ext cx="74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d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04" name=""/>
            <p:cNvGraphicFramePr/>
            <p:nvPr/>
          </p:nvGraphicFramePr>
          <p:xfrm>
            <a:off x="3403800" y="2511360"/>
            <a:ext cx="1323720" cy="4478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50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403800" y="2511360"/>
                      <a:ext cx="132372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6" name=""/>
          <p:cNvGrpSpPr/>
          <p:nvPr/>
        </p:nvGrpSpPr>
        <p:grpSpPr>
          <a:xfrm>
            <a:off x="693720" y="3394080"/>
            <a:ext cx="5253120" cy="519120"/>
            <a:chOff x="693720" y="3394080"/>
            <a:chExt cx="5253120" cy="519120"/>
          </a:xfrm>
        </p:grpSpPr>
        <p:graphicFrame>
          <p:nvGraphicFramePr>
            <p:cNvPr id="507" name=""/>
            <p:cNvGraphicFramePr/>
            <p:nvPr/>
          </p:nvGraphicFramePr>
          <p:xfrm>
            <a:off x="693720" y="3394080"/>
            <a:ext cx="1146240" cy="5191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508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93720" y="3394080"/>
                      <a:ext cx="1146240" cy="5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9" name=""/>
            <p:cNvSpPr/>
            <p:nvPr/>
          </p:nvSpPr>
          <p:spPr>
            <a:xfrm>
              <a:off x="1908360" y="3472560"/>
              <a:ext cx="403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304920"/>
                  <a:tab algn="l" pos="609480"/>
                  <a:tab algn="l" pos="62485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ating the values of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and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291960" y="3053520"/>
            <a:ext cx="576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)  Show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satisfy a relationship of the fo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5821200" y="3529080"/>
          <a:ext cx="2345040" cy="525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821200" y="3529080"/>
                    <a:ext cx="234504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5662440" y="4095720"/>
          <a:ext cx="3233880" cy="476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662440" y="4095720"/>
                    <a:ext cx="32338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5332320" y="4618080"/>
          <a:ext cx="1925640" cy="4460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32320" y="4618080"/>
                    <a:ext cx="192564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>
            <a:off x="496800" y="4237200"/>
            <a:ext cx="11577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909800" y="4254480"/>
          <a:ext cx="426960" cy="3380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909800" y="4254480"/>
                    <a:ext cx="42696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2711880" y="4246560"/>
            <a:ext cx="1370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-inter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4219560" y="4264200"/>
          <a:ext cx="399960" cy="3380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219560" y="4264200"/>
                    <a:ext cx="39996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"/>
          <p:cNvGraphicFramePr/>
          <p:nvPr/>
        </p:nvGraphicFramePr>
        <p:xfrm>
          <a:off x="1568520" y="4925880"/>
          <a:ext cx="1800000" cy="3970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568520" y="4925880"/>
                    <a:ext cx="180000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4051440" y="5102280"/>
          <a:ext cx="4727520" cy="47160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4051440" y="5102280"/>
                    <a:ext cx="47275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7788240" y="4645080"/>
          <a:ext cx="900000" cy="3477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7788240" y="4645080"/>
                    <a:ext cx="90000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9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530" name="" descr=""/>
            <p:cNvPicPr/>
            <p:nvPr/>
          </p:nvPicPr>
          <p:blipFill>
            <a:blip r:embed="rId30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81960" y="1015200"/>
            <a:ext cx="476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diagram shows part of the graph of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2058840" y="1630440"/>
          <a:ext cx="2030400" cy="48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8840" y="1630440"/>
                    <a:ext cx="20304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"/>
          <p:cNvSpPr/>
          <p:nvPr/>
        </p:nvSpPr>
        <p:spPr>
          <a:xfrm>
            <a:off x="644760" y="232956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 the values of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and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9"/>
          <a:stretch/>
        </p:blipFill>
        <p:spPr>
          <a:xfrm>
            <a:off x="5865840" y="932040"/>
            <a:ext cx="2879640" cy="237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6" name=""/>
          <p:cNvGraphicFramePr/>
          <p:nvPr/>
        </p:nvGraphicFramePr>
        <p:xfrm>
          <a:off x="1971720" y="3159000"/>
          <a:ext cx="2570040" cy="487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71720" y="3159000"/>
                    <a:ext cx="25700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"/>
          <p:cNvSpPr/>
          <p:nvPr/>
        </p:nvSpPr>
        <p:spPr>
          <a:xfrm>
            <a:off x="616320" y="3181320"/>
            <a:ext cx="12992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(7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1944720" y="3789360"/>
          <a:ext cx="2624040" cy="487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44720" y="3789360"/>
                    <a:ext cx="26240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"/>
          <p:cNvSpPr/>
          <p:nvPr/>
        </p:nvSpPr>
        <p:spPr>
          <a:xfrm>
            <a:off x="616320" y="3789360"/>
            <a:ext cx="12992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(3,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43400" y="4567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ence, from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2890800" y="4541760"/>
          <a:ext cx="1136520" cy="379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890800" y="4541760"/>
                    <a:ext cx="11365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5" name=""/>
          <p:cNvGraphicFramePr/>
          <p:nvPr/>
        </p:nvGraphicFramePr>
        <p:xfrm>
          <a:off x="4689360" y="4541760"/>
          <a:ext cx="947880" cy="3794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689360" y="4541760"/>
                    <a:ext cx="947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"/>
          <p:cNvSpPr/>
          <p:nvPr/>
        </p:nvSpPr>
        <p:spPr>
          <a:xfrm>
            <a:off x="743400" y="518328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nd from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4797360" y="5118120"/>
          <a:ext cx="730440" cy="379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797360" y="5118120"/>
                    <a:ext cx="730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"/>
          <p:cNvGraphicFramePr/>
          <p:nvPr/>
        </p:nvGraphicFramePr>
        <p:xfrm>
          <a:off x="2722680" y="5124600"/>
          <a:ext cx="1269720" cy="4870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722680" y="5124600"/>
                    <a:ext cx="126972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2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563" name="" descr=""/>
            <p:cNvPicPr/>
            <p:nvPr/>
          </p:nvPicPr>
          <p:blipFill>
            <a:blip r:embed="rId22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1520" y="955080"/>
            <a:ext cx="33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diagram shows a sketch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t of the graph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2514600" y="1433520"/>
          <a:ext cx="1440000" cy="44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4600" y="1433520"/>
                    <a:ext cx="144000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6" name=""/>
          <p:cNvSpPr/>
          <p:nvPr/>
        </p:nvSpPr>
        <p:spPr>
          <a:xfrm>
            <a:off x="409320" y="2122920"/>
            <a:ext cx="642924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te the values of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and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ketch the graph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3270240" y="2583000"/>
          <a:ext cx="2182680" cy="447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0240" y="2583000"/>
                    <a:ext cx="21826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9" name="" descr=""/>
          <p:cNvPicPr/>
          <p:nvPr/>
        </p:nvPicPr>
        <p:blipFill>
          <a:blip r:embed="rId11"/>
          <a:stretch/>
        </p:blipFill>
        <p:spPr>
          <a:xfrm>
            <a:off x="5846760" y="774720"/>
            <a:ext cx="2903400" cy="245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0" name=""/>
          <p:cNvGraphicFramePr/>
          <p:nvPr/>
        </p:nvGraphicFramePr>
        <p:xfrm>
          <a:off x="1131840" y="3359160"/>
          <a:ext cx="704880" cy="379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31840" y="3359160"/>
                    <a:ext cx="704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2" name=""/>
          <p:cNvGraphicFramePr/>
          <p:nvPr/>
        </p:nvGraphicFramePr>
        <p:xfrm>
          <a:off x="2502000" y="3367080"/>
          <a:ext cx="730080" cy="379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502000" y="3367080"/>
                    <a:ext cx="7300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"/>
          <p:cNvSpPr/>
          <p:nvPr/>
        </p:nvSpPr>
        <p:spPr>
          <a:xfrm>
            <a:off x="947880" y="4518000"/>
            <a:ext cx="35305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 mo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unit to the left and 3 units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6"/>
          <a:stretch/>
        </p:blipFill>
        <p:spPr>
          <a:xfrm>
            <a:off x="5418000" y="3019320"/>
            <a:ext cx="2979720" cy="2968560"/>
          </a:xfrm>
          <a:prstGeom prst="rect">
            <a:avLst/>
          </a:prstGeom>
          <a:ln w="0">
            <a:noFill/>
          </a:ln>
        </p:spPr>
      </p:pic>
      <p:grpSp>
        <p:nvGrpSpPr>
          <p:cNvPr id="586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587" name="" descr=""/>
            <p:cNvPicPr/>
            <p:nvPr/>
          </p:nvPicPr>
          <p:blipFill>
            <a:blip r:embed="rId17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67560" y="957960"/>
            <a:ext cx="30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)   i)   Sketch the graph o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3429000" y="865080"/>
          <a:ext cx="1940040" cy="42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865080"/>
                    <a:ext cx="194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9" name=""/>
          <p:cNvSpPr/>
          <p:nvPr/>
        </p:nvSpPr>
        <p:spPr>
          <a:xfrm>
            <a:off x="327240" y="1372320"/>
            <a:ext cx="54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i)   On the same diagram, sketch the graph of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3444840" y="1731960"/>
          <a:ext cx="1932120" cy="46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44840" y="1731960"/>
                    <a:ext cx="19321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"/>
          <p:cNvSpPr/>
          <p:nvPr/>
        </p:nvSpPr>
        <p:spPr>
          <a:xfrm>
            <a:off x="309240" y="2432160"/>
            <a:ext cx="463572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304920"/>
                <a:tab algn="l" pos="609480"/>
                <a:tab algn="l" pos="990720"/>
                <a:tab algn="l" pos="1371600"/>
                <a:tab algn="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 that the graphs intersect at a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60000"/>
              </a:lnSpc>
              <a:tabLst>
                <a:tab algn="l" pos="0"/>
                <a:tab algn="l" pos="304920"/>
                <a:tab algn="l" pos="609480"/>
                <a:tab algn="l" pos="990720"/>
                <a:tab algn="l" pos="1371600"/>
                <a:tab algn="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ere the x-coordinate i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3586320" y="2825640"/>
          <a:ext cx="1506240" cy="84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86320" y="2825640"/>
                    <a:ext cx="150624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781200" y="3830760"/>
          <a:ext cx="1339560" cy="361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81200" y="3830760"/>
                    <a:ext cx="13395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2536920" y="3821040"/>
          <a:ext cx="1793880" cy="408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36920" y="3821040"/>
                    <a:ext cx="179388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5254560" y="3795840"/>
          <a:ext cx="1862280" cy="452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254560" y="3795840"/>
                    <a:ext cx="186228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590400" y="4379760"/>
          <a:ext cx="3587760" cy="452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90400" y="4379760"/>
                    <a:ext cx="35877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5151600" y="4392720"/>
          <a:ext cx="2496960" cy="452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151600" y="4392720"/>
                    <a:ext cx="249696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625320" y="5000760"/>
          <a:ext cx="2316240" cy="452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25320" y="5000760"/>
                    <a:ext cx="231624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3575160" y="4946760"/>
          <a:ext cx="2292120" cy="498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5160" y="4946760"/>
                    <a:ext cx="229212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6294600" y="4713120"/>
          <a:ext cx="2428560" cy="906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294600" y="4713120"/>
                    <a:ext cx="242856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1" name="" descr=""/>
          <p:cNvPicPr/>
          <p:nvPr/>
        </p:nvPicPr>
        <p:blipFill>
          <a:blip r:embed="rId29"/>
          <a:stretch/>
        </p:blipFill>
        <p:spPr>
          <a:xfrm>
            <a:off x="5492880" y="866880"/>
            <a:ext cx="3289320" cy="2789280"/>
          </a:xfrm>
          <a:prstGeom prst="rect">
            <a:avLst/>
          </a:prstGeom>
          <a:ln w="0">
            <a:noFill/>
          </a:ln>
        </p:spPr>
      </p:pic>
      <p:grpSp>
        <p:nvGrpSpPr>
          <p:cNvPr id="622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623" name="" descr=""/>
            <p:cNvPicPr/>
            <p:nvPr/>
          </p:nvPicPr>
          <p:blipFill>
            <a:blip r:embed="rId30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58640" y="94536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t of the graph o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615960" y="1357200"/>
          <a:ext cx="2368440" cy="44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5960" y="1357200"/>
                    <a:ext cx="236844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6" name=""/>
          <p:cNvSpPr/>
          <p:nvPr/>
        </p:nvSpPr>
        <p:spPr>
          <a:xfrm>
            <a:off x="441720" y="1820880"/>
            <a:ext cx="26406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shown in the dia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graph crosse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-axis at the point A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straight l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2192400" y="2913120"/>
          <a:ext cx="77148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92400" y="2913120"/>
                    <a:ext cx="7714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"/>
          <p:cNvSpPr/>
          <p:nvPr/>
        </p:nvSpPr>
        <p:spPr>
          <a:xfrm>
            <a:off x="449280" y="3418920"/>
            <a:ext cx="75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 the point B.   Find algebraically the x co-ordinates of A and B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1"/>
          <a:stretch/>
        </p:blipFill>
        <p:spPr>
          <a:xfrm>
            <a:off x="3903840" y="874800"/>
            <a:ext cx="4983120" cy="249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1" name=""/>
          <p:cNvGraphicFramePr/>
          <p:nvPr/>
        </p:nvGraphicFramePr>
        <p:xfrm>
          <a:off x="598320" y="3978360"/>
          <a:ext cx="2183040" cy="417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8320" y="3978360"/>
                    <a:ext cx="218304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2801880" y="3827520"/>
          <a:ext cx="2554200" cy="718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801880" y="3827520"/>
                    <a:ext cx="255420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"/>
          <p:cNvGraphicFramePr/>
          <p:nvPr/>
        </p:nvGraphicFramePr>
        <p:xfrm>
          <a:off x="5726160" y="3978360"/>
          <a:ext cx="2693880" cy="417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726160" y="3978360"/>
                    <a:ext cx="26938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"/>
          <p:cNvGraphicFramePr/>
          <p:nvPr/>
        </p:nvGraphicFramePr>
        <p:xfrm>
          <a:off x="733320" y="4540320"/>
          <a:ext cx="2113200" cy="417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33320" y="4540320"/>
                    <a:ext cx="211320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3132000" y="4540320"/>
          <a:ext cx="2113200" cy="4176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132000" y="4540320"/>
                    <a:ext cx="211320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1" name=""/>
          <p:cNvGraphicFramePr/>
          <p:nvPr/>
        </p:nvGraphicFramePr>
        <p:xfrm>
          <a:off x="5533920" y="4548240"/>
          <a:ext cx="1393920" cy="372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533920" y="4548240"/>
                    <a:ext cx="139392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3" name=""/>
          <p:cNvGraphicFramePr/>
          <p:nvPr/>
        </p:nvGraphicFramePr>
        <p:xfrm>
          <a:off x="7240680" y="4548240"/>
          <a:ext cx="1255680" cy="372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7240680" y="454824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555480" y="5099040"/>
          <a:ext cx="2343240" cy="44784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55480" y="5099040"/>
                    <a:ext cx="234324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3130560" y="5140440"/>
          <a:ext cx="1793880" cy="3985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658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130560" y="5140440"/>
                    <a:ext cx="17938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5257800" y="5140440"/>
          <a:ext cx="1544760" cy="3985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257800" y="5140440"/>
                    <a:ext cx="154476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1" name=""/>
          <p:cNvGraphicFramePr/>
          <p:nvPr/>
        </p:nvGraphicFramePr>
        <p:xfrm>
          <a:off x="7205760" y="5157720"/>
          <a:ext cx="1325520" cy="372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7205760" y="5157720"/>
                    <a:ext cx="132552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3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664" name="" descr=""/>
            <p:cNvPicPr/>
            <p:nvPr/>
          </p:nvPicPr>
          <p:blipFill>
            <a:blip r:embed="rId34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31200" y="893520"/>
            <a:ext cx="35701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diagram is a sketch of par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aph o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879560" y="1138320"/>
          <a:ext cx="1862280" cy="48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79560" y="1138320"/>
                    <a:ext cx="18622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7" name=""/>
          <p:cNvSpPr/>
          <p:nvPr/>
        </p:nvSpPr>
        <p:spPr>
          <a:xfrm>
            <a:off x="164880" y="1681200"/>
            <a:ext cx="465228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f (1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and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1) lie on this curv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down the values of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and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4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ke a copy of this diagram and on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ketch the graph o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2938320" y="2637000"/>
          <a:ext cx="1150920" cy="56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38320" y="2637000"/>
                    <a:ext cx="11509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325800" y="3309120"/>
            <a:ext cx="56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nd the co-ordinates of the point of intersection o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731880" y="3697200"/>
          <a:ext cx="952560" cy="466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1880" y="3697200"/>
                    <a:ext cx="95256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"/>
          <p:cNvSpPr/>
          <p:nvPr/>
        </p:nvSpPr>
        <p:spPr>
          <a:xfrm>
            <a:off x="1847160" y="3806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ith th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3614760" y="3792600"/>
          <a:ext cx="711000" cy="385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14760" y="3792600"/>
                    <a:ext cx="7110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6" name="" descr=""/>
          <p:cNvPicPr/>
          <p:nvPr/>
        </p:nvPicPr>
        <p:blipFill>
          <a:blip r:embed="rId15"/>
          <a:stretch/>
        </p:blipFill>
        <p:spPr>
          <a:xfrm>
            <a:off x="4884840" y="971640"/>
            <a:ext cx="1979640" cy="167616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663840" y="4303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282680" y="4332240"/>
          <a:ext cx="701640" cy="324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282680" y="4332240"/>
                    <a:ext cx="70164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0" name=""/>
          <p:cNvGraphicFramePr/>
          <p:nvPr/>
        </p:nvGraphicFramePr>
        <p:xfrm>
          <a:off x="2384280" y="4305240"/>
          <a:ext cx="755640" cy="3780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384280" y="4305240"/>
                    <a:ext cx="7556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"/>
          <p:cNvSpPr/>
          <p:nvPr/>
        </p:nvSpPr>
        <p:spPr>
          <a:xfrm>
            <a:off x="5437440" y="4303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20"/>
          <a:stretch/>
        </p:blipFill>
        <p:spPr>
          <a:xfrm>
            <a:off x="5921280" y="2646360"/>
            <a:ext cx="2992680" cy="219060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674640" y="49831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1257480" y="4941720"/>
          <a:ext cx="1004760" cy="466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257480" y="4941720"/>
                    <a:ext cx="100476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2776680" y="4941720"/>
          <a:ext cx="850680" cy="466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776680" y="4941720"/>
                    <a:ext cx="85068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4148280" y="4890960"/>
          <a:ext cx="979200" cy="569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0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148280" y="4890960"/>
                    <a:ext cx="9792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1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702" name="" descr=""/>
            <p:cNvPicPr/>
            <p:nvPr/>
          </p:nvPicPr>
          <p:blipFill>
            <a:blip r:embed="rId27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5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19400" y="1019880"/>
            <a:ext cx="538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diagram shows part of the graph with eq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536400" y="1395360"/>
          <a:ext cx="833760" cy="465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1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6400" y="1395360"/>
                    <a:ext cx="8337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"/>
          <p:cNvSpPr/>
          <p:nvPr/>
        </p:nvSpPr>
        <p:spPr>
          <a:xfrm>
            <a:off x="1351080" y="1431360"/>
            <a:ext cx="37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 straight line with eq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4943520" y="1386000"/>
          <a:ext cx="880920" cy="393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43520" y="1386000"/>
                    <a:ext cx="8809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8" name=""/>
          <p:cNvSpPr/>
          <p:nvPr/>
        </p:nvSpPr>
        <p:spPr>
          <a:xfrm>
            <a:off x="457200" y="2023560"/>
            <a:ext cx="4406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graphs intersect at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lve algebraically the equat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3917880" y="2289240"/>
          <a:ext cx="1112760" cy="458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17880" y="2289240"/>
                    <a:ext cx="111276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1" name=""/>
          <p:cNvSpPr/>
          <p:nvPr/>
        </p:nvSpPr>
        <p:spPr>
          <a:xfrm>
            <a:off x="422280" y="2846880"/>
            <a:ext cx="76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hence write down, correct to 3 decimal places, the co-ordinates of P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12"/>
          <a:stretch/>
        </p:blipFill>
        <p:spPr>
          <a:xfrm>
            <a:off x="5979960" y="922320"/>
            <a:ext cx="2795760" cy="20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3" name=""/>
          <p:cNvGraphicFramePr/>
          <p:nvPr/>
        </p:nvGraphicFramePr>
        <p:xfrm>
          <a:off x="530280" y="3527280"/>
          <a:ext cx="2576520" cy="544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0280" y="3527280"/>
                    <a:ext cx="257652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3560760" y="3541680"/>
          <a:ext cx="3220920" cy="515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60760" y="3541680"/>
                    <a:ext cx="32209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647640" y="4370400"/>
          <a:ext cx="2313000" cy="974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7640" y="4370400"/>
                    <a:ext cx="231300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3375000" y="4600440"/>
          <a:ext cx="2576520" cy="457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3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375000" y="4600440"/>
                    <a:ext cx="2576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1" name=""/>
          <p:cNvGraphicFramePr/>
          <p:nvPr/>
        </p:nvGraphicFramePr>
        <p:xfrm>
          <a:off x="6243480" y="5035680"/>
          <a:ext cx="2487600" cy="457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243480" y="5035680"/>
                    <a:ext cx="2487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3" name=""/>
          <p:cNvGrpSpPr/>
          <p:nvPr/>
        </p:nvGrpSpPr>
        <p:grpSpPr>
          <a:xfrm>
            <a:off x="6097680" y="5749920"/>
            <a:ext cx="874800" cy="944280"/>
            <a:chOff x="6097680" y="5749920"/>
            <a:chExt cx="874800" cy="944280"/>
          </a:xfrm>
        </p:grpSpPr>
        <p:pic>
          <p:nvPicPr>
            <p:cNvPr id="734" name="" descr=""/>
            <p:cNvPicPr/>
            <p:nvPr/>
          </p:nvPicPr>
          <p:blipFill>
            <a:blip r:embed="rId23"/>
            <a:stretch/>
          </p:blipFill>
          <p:spPr>
            <a:xfrm>
              <a:off x="6237360" y="5749920"/>
              <a:ext cx="52380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6097680" y="6325920"/>
              <a:ext cx="8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>
            <a:hlinkClick r:id="" action="ppaction://hlinkshowjump?jump=endshow"/>
            <a:hlinkClick r:id="rId1"/>
          </p:cNvPr>
          <p:cNvSpPr/>
          <p:nvPr/>
        </p:nvSpPr>
        <p:spPr>
          <a:xfrm>
            <a:off x="7956720" y="6093000"/>
            <a:ext cx="647640" cy="504720"/>
          </a:xfrm>
          <a:prstGeom prst="rightArrow">
            <a:avLst>
              <a:gd name="adj1" fmla="val 50000"/>
              <a:gd name="adj2" fmla="val 3207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164360" y="6165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rot="20998200">
            <a:off x="2852640" y="2133360"/>
            <a:ext cx="914400" cy="1312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cc00"/>
                </a:solidFill>
                <a:latin typeface="Times New Roman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388800">
            <a:off x="3995640" y="2133360"/>
            <a:ext cx="914400" cy="1312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Times New Roman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rot="21243600">
            <a:off x="5138280" y="2133360"/>
            <a:ext cx="914400" cy="1312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ff"/>
                </a:solidFill>
                <a:latin typeface="Times New Roman"/>
              </a:rPr>
              <a:t>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37162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maths4scotland.co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5514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©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CPD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2"/>
          <a:stretch/>
        </p:blipFill>
        <p:spPr>
          <a:xfrm>
            <a:off x="507960" y="404640"/>
            <a:ext cx="8096400" cy="4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4000"/>
                            </p:stCondLst>
                            <p:childTnLst>
                              <p:par>
                                <p:cTn id="86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71200" y="1217520"/>
            <a:ext cx="32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Rules of l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028960" y="2084400"/>
          <a:ext cx="4389480" cy="63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28960" y="2084400"/>
                    <a:ext cx="43894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2144880" y="2925720"/>
          <a:ext cx="4275000" cy="1165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44880" y="2925720"/>
                    <a:ext cx="427500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2692440" y="4324320"/>
          <a:ext cx="3179880" cy="669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92440" y="4324320"/>
                    <a:ext cx="31798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73400" y="1376280"/>
            <a:ext cx="38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pecial loga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375000" y="2502000"/>
          <a:ext cx="1735200" cy="63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75000" y="2502000"/>
                    <a:ext cx="173520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416400" y="3765600"/>
          <a:ext cx="1731960" cy="636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6400" y="3765600"/>
                    <a:ext cx="17319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80160" y="1397160"/>
            <a:ext cx="677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 between log and expon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12800" y="3041640"/>
          <a:ext cx="5680080" cy="9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2800" y="3041640"/>
                    <a:ext cx="568008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3920" y="93996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of the exponential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2603520" y="1636560"/>
            <a:ext cx="396864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5280" y="939960"/>
            <a:ext cx="53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of the logarithmic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2689200" y="1620720"/>
            <a:ext cx="434664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4440" y="1217520"/>
            <a:ext cx="33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d function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93840" y="2160720"/>
          <a:ext cx="1765440" cy="296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93840" y="2160720"/>
                    <a:ext cx="1765440" cy="29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885480" y="2087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graph left  </a:t>
            </a:r>
            <a:r>
              <a:rPr b="0" i="1" lang="en-US" sz="2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5840" y="2637000"/>
            <a:ext cx="27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graph right  </a:t>
            </a:r>
            <a:r>
              <a:rPr b="0" i="1" lang="en-US" sz="2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5480" y="3213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 in x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5480" y="36846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 in y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422100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graph up </a:t>
            </a:r>
            <a:r>
              <a:rPr b="0" i="1" lang="en-US" sz="18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920" y="4653000"/>
            <a:ext cx="27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graph down </a:t>
            </a:r>
            <a:r>
              <a:rPr b="0" i="1" lang="en-US" sz="18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505480" y="1212840"/>
          <a:ext cx="1552680" cy="539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05480" y="1212840"/>
                    <a:ext cx="15526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7297560" y="4583160"/>
            <a:ext cx="1586160" cy="903240"/>
            <a:chOff x="7297560" y="4583160"/>
            <a:chExt cx="1586160" cy="903240"/>
          </a:xfrm>
        </p:grpSpPr>
        <p:pic>
          <p:nvPicPr>
            <p:cNvPr id="145" name="" descr=""/>
            <p:cNvPicPr/>
            <p:nvPr/>
          </p:nvPicPr>
          <p:blipFill>
            <a:blip r:embed="rId11"/>
            <a:stretch/>
          </p:blipFill>
          <p:spPr>
            <a:xfrm>
              <a:off x="7783560" y="4583160"/>
              <a:ext cx="52380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7297560" y="5118120"/>
              <a:ext cx="158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Click to s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s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3280" y="121752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or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87560" y="2581200"/>
            <a:ext cx="833400" cy="628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21080" y="2665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141880" y="2567160"/>
          <a:ext cx="1052640" cy="745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41880" y="2567160"/>
                    <a:ext cx="105264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2887560" y="3992400"/>
            <a:ext cx="833400" cy="62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21080" y="4076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054760" y="3978360"/>
          <a:ext cx="1226880" cy="745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054760" y="3978360"/>
                    <a:ext cx="122688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22:07:43Z</dcterms:created>
  <dc:creator>Derek Warburton</dc:creator>
  <dc:description/>
  <dc:language>en-US</dc:language>
  <cp:lastModifiedBy>Derek Warburton</cp:lastModifiedBy>
  <dcterms:modified xsi:type="dcterms:W3CDTF">2004-05-17T20:35:25Z</dcterms:modified>
  <cp:revision>362</cp:revision>
  <dc:subject/>
  <dc:title>Standard Grade</dc:title>
</cp:coreProperties>
</file>